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870-4431-4AD1-A91E-586C9182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AFC-FED9-42BC-BC84-35994622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BD6D6-CF52-4723-890E-47BFF2F5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D9180-CAF8-4188-8252-62EF8069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E9761-0766-4C6C-AB63-3E0B9B0D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9D5BB-E9E6-4675-9056-68486EB5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F6915-5B7B-4CFD-8CBD-0F10FF1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93CC8-18A8-44A8-9CF8-DF4EB859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02C1A-BC4A-435D-9BCA-195525DD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4A8D7-E26F-4A9B-A682-A697C0CD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ED3A4-B882-4FD2-B381-4241F819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3AC19-EBB0-453A-B7B2-1474AB81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D8F-73A5-4E63-84EA-B4C2F5E1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D9C0D-DE7E-4BCC-B3DD-D1E035DA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CB6E9-D079-429B-AD43-AF2E3BE1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7CFC5-5507-4881-95CC-E83321D3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FAD41-01C6-4C5B-A006-ADB96B3B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0E40D-C458-43C1-B611-BE702702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C9732-168C-48E3-9A8F-5B1D1355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E15A7-1004-40C8-A2F4-46D97F03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86E0A-3D0E-4815-A6C6-DD8CFF2E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15290-8533-479E-AE4C-50FEF169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C48E4-0215-4CE4-B2FF-594ADC5C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92D-2204-451C-9FDD-49AB5A49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1D701-551D-46DF-A8E0-454155B8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6D04E-F498-4D02-9627-1064DD42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2D879-0BDE-40AC-BB41-4D25CEF5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4CD35-4CB8-46EC-B958-DC953D97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AB3BA-7557-4434-B054-F109E3EF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A20F4-499F-4B6D-A0EE-988E8329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E3F1A-4E26-4F4B-8D32-8F7FBFA3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30373-9427-463A-8059-1372205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B6C18-BE72-4D02-A637-CEF28B69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E6941-D789-4394-AF05-211690D8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0BBE-3DDC-46F1-BAC5-9F5420A1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243E7-5DF2-4C37-93B7-51D6082A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5889B-C7C0-4FE5-9616-E835C518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67091-6B5D-4EF9-A6DD-A2D3F604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D03F6-7D55-4EDB-A964-0197058A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A4A35-CE47-4229-A8E3-3E594F03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6020F-F831-4D62-A1D6-54C8F6D5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848BE-FE48-41DB-AF43-9C2A000B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F3F57-C845-4654-BF6C-068C8078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C4AE4-0C0F-496B-AAB7-8D9F2161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5C19C-9A00-4C5E-983B-015EAAEA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0C2D-E8E1-4457-A413-83D37642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FFDB2-2483-4C63-B99A-35732724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910F7-3FE7-4DB6-8C5D-CD79597D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A87C0-85D1-4212-BD4C-60EA6E0A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98750-8621-4EDF-95E1-29C69A67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97D93-51C2-44F0-BD1E-6741EC95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E055-6BD9-409D-8223-432CCBE2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E91A-02C9-4F84-AADC-E765ACC7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0420-6184-44AE-AE47-0505B871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CB25-EDBE-4883-ADC3-7A180DDE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F309-D1CA-4FE4-8723-F4D583ED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5AA-9F6B-47FD-BA9A-8A077174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99A0-6B50-4B42-A38E-31D4B2EE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838B-5BB8-4C26-9D49-10857164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8100-4446-48F8-B604-7CF226FF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7383-0BEF-4245-8590-BD33FF6D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1923-5BCD-4ACE-BEC5-632E5AEC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489F-5D41-46CB-A09E-018462B1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4C5C-1F81-42B0-9F2A-23A34A63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6D85-95E5-4AC0-8661-152F745A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7F045-3049-41B0-868E-6B9554E8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105B8-C8F3-4C49-9F08-97BAE96A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A9A-1C30-4490-B74C-93586899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4D8A-F011-4B98-ADCA-AF18366F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3C6F2-E918-49E0-8AEE-87675A42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F0F0-068C-422B-AA44-452EE613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2ABC3-70B2-4F1A-B7EA-93015794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9F2A3-9E31-4C9B-8EAE-BE7014A7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C7E07-6EC8-43B7-9D6D-0D617BA3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E67AD-2337-4B52-994C-808B83C8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3EF19-C946-47EF-AAFA-F6A363E6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80F57-387E-4E59-88B5-2B6023D3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A064B-367D-45CE-8B68-4BA4117B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857-DF96-4C2C-A4F7-E5D775DD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3CC3-E74C-418E-A724-0BD54B27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DED0-ABC3-4A5C-836D-67425A27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CA814-A416-4A7A-8A32-99CEB0CB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A9C30-CE0D-4097-B634-4ABDDF6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0D305-5C71-4732-A9CE-7F607842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91864-042A-4040-ACAB-FBDFE4E5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E547D-AA72-4A99-B2EF-066B01F8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3CA66-41D7-49B9-A5F3-7F56693D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6CEF1-F3BC-487E-A8F1-3C6DE858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0B943-632A-45EC-8B0A-2C3DD422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431-FC38-42E2-ABCC-1EEA6BC7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C24AE-2EE1-4497-8BD2-E0D587DE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19D7A-B0EE-4DE5-AE67-E34A55EE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AC609-005E-44CB-A526-A5C038A2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2550A-6B61-4680-835F-EAC33472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6BEDB-6657-477B-A0FE-AF55A893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DB7D-EA62-4D60-B4FC-29CD39B6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AB6A7-8E9D-4B06-A19A-C75C1295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82708-67A6-4594-8434-8F896649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C9BB4-0FFD-47E5-A519-1EB47C57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78510-BBE0-465C-8A6C-B096A257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298-5A9F-4781-96AD-0B4F78CA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FCEB8-4E28-4B1F-9C0E-A202DA0B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16E33-23CD-4B32-ABE3-8574A9A7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4A028-A17C-4A95-8047-9115CB96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E0DCA-B760-4614-AF12-38C00555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32712-1A7E-4E7D-94A8-6E2037F3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1786F-7527-418E-ACF3-50725F11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C8EFF-BFE5-4328-B791-B68714CC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6FB3E-422E-4214-AB8D-9947E303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B5401-233A-4603-BD09-5F0D559B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05E96-6100-44FB-954C-1A03997C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E19-C68A-4312-B1DB-BEAF5A41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CBFCD-2B9B-4DE6-A990-2F913238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C6603-D11C-4583-BFA8-93DA753D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DC0CC-A24F-462A-A33C-16937B42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64E38-EFA0-40E9-81DE-8AE9E614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0D7F2-CCDA-4380-A426-6DE909E7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AA80D-C068-43E3-9C17-A3C55864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007C3-2E46-41C6-8C36-C9814A54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FA3A7-13B4-4005-865B-A0F53899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05E92-0BBC-4B26-99EC-F060A955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D66BD-0405-4A7C-AAD0-9E2BB3B8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4D4-AB2D-4575-A4A7-55FA2874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726C0-B0CA-4625-9E6F-726E2FA7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9AFD3-1881-4354-8190-0FF84F15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ED288-E0E4-4C43-8A79-DC1FD61E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40854-2B0F-4F63-A543-9BFCAFE4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4D610-6A25-4390-B283-5B89DC80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FA4F2-59EA-4AB1-9C93-D72186CB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54EDD-5D72-4469-8421-4C22B447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9D44F-11BA-423A-ABD3-42C70609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6D254-7BD9-48B9-BED4-006E2807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AF3C3-A7BE-4444-8083-702A555A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2AD-1709-4F16-AA35-F18F91D6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993F6-9580-4CA3-9221-95259D0F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67164-BCE2-47F9-AE6B-2AA21A80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75D47-D8A6-48FA-B35F-65350448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391EB-1D6F-4732-8BE6-1EB1DFD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8D55F-AE25-412A-B4FE-AF0B8206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2AC0E-4624-42EA-A611-C457312F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341A0-72A6-433C-B5CA-88FFF2D8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47B0B-F803-4321-8629-A01B9C12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87384-1CDD-4583-9B66-FEBB1139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5F3C3-E850-4A4A-B287-7D8481D2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CEFD-F917-4F55-8F0A-F445490DD9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6685-93BA-408A-896D-F9236032A0F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801E-6BE4-4C78-9F1A-2C5F734D30A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2C6D-8303-4EE2-A654-7976920F53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4BB1-F2BF-4FD2-9068-E35CEC469E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AE7D-5CC6-467B-86B4-F3AB0AAABE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6D96-4EBA-4DD9-AD32-3D177DC3F1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63A0-4346-4CD1-B536-B0A862044E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CFF1-8B1A-4A02-B9BA-8A9EDB8EA1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9225-FF00-42BC-A864-30A232ED1C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1450-9E43-4DC7-92E8-1FEB7AAF41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12DB-8DB3-4B41-870C-1A017EE7080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70 Môj Pán ma naši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Môj Pán ma našiel, Priateľ môj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láskou svojou hľa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ž riecť som stihol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byť t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dávno už ma čak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Dnes jeho blízkosť cítiť smiem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jeho ruky chráni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tále bude pri mne,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jeho bez prest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Môj Pán ma našiel, Priateľ môj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ochotne ma prij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a mňa dal aj život s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 svoju za mňa vyl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on je mojím záchranc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ním sa vďačne skláň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á ma rád, to poznal som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chcem s ním byť bez prestania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Môj Pán ma našiel, Priateľ môj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pomoc jeho stá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darovať mu život sv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žiť na jeho chvál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 lásky pre mňa priprav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čom ja nemám zda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, aby som s ním večne ž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 jeho bez prestani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5-29T09:03:46Z</dcterms:modified>
  <cp:revision>21</cp:revision>
  <dc:subject/>
  <dc:title>Je veľký náš Pán, on slávy je Kráľ Nech do všetkých strán  spev vrúcnych znie chvál.</dc:title>
</cp:coreProperties>
</file>